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19.jpeg" ContentType="image/jpeg"/>
  <Override PartName="/ppt/media/image6.wmf" ContentType="image/x-wmf"/>
  <Override PartName="/ppt/media/image5.jpeg" ContentType="image/jpeg"/>
  <Override PartName="/ppt/media/image11.wmf" ContentType="image/x-wmf"/>
  <Override PartName="/ppt/media/image9.jpeg" ContentType="image/jpeg"/>
  <Override PartName="/ppt/media/image2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8.jpeg" ContentType="image/jpeg"/>
  <Override PartName="/ppt/media/image27.jpeg" ContentType="image/jpeg"/>
  <Override PartName="/ppt/media/image13.wmf" ContentType="image/x-wmf"/>
  <Override PartName="/ppt/media/image3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6.wmf" ContentType="image/x-wmf"/>
  <Override PartName="/ppt/media/image26.wmf" ContentType="image/x-wmf"/>
  <Override PartName="/ppt/media/image32.jpeg" ContentType="image/jpeg"/>
  <Override PartName="/ppt/media/image17.png" ContentType="image/png"/>
  <Override PartName="/ppt/media/image18.jpeg" ContentType="image/jpeg"/>
  <Override PartName="/ppt/media/image21.jpeg" ContentType="image/jpeg"/>
  <Override PartName="/ppt/media/image20.jpeg" ContentType="image/jpeg"/>
  <Override PartName="/ppt/media/image22.wmf" ContentType="image/x-wmf"/>
  <Override PartName="/ppt/media/image23.png" ContentType="image/png"/>
  <Override PartName="/ppt/media/image15.jpeg" ContentType="image/jpeg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4225-1C22-404D-9D55-62F60E837F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9023-ACB6-4E49-AC61-432BD2B1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828-38C6-47C4-95B8-60850774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C47-20BD-4DEC-AA91-5735B3D9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7CA-B81A-4725-A902-D6046D66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2FD-6F81-451B-82E8-30EF3CF2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C31B-2A34-4F64-A7B9-16474A3B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199-D7BC-42B7-8DF3-64C19C8D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380-0B82-43CE-ACAB-A4EE50EB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BA5-DA61-473A-B4AD-19244906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25F-8FB9-4D80-B396-E28F09CF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0B1-B7E9-44AD-8AF3-ADB43A92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798-4933-4718-83C9-7F0D193E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D9A0-3F68-461E-BB92-791E4A7E29BE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2DF2-6E28-4440-8A6A-3F1D7E543C8F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ucineencasa.com/images/idiomas.jpg&amp;imgrefurl=http://foro.univision.com/t5/Amarte-es-mi-Pecado/CUANTOS-CUALES-IDIOMAS-HABLAN/m-p/45072683&amp;usg=__qSd4E8mmojl3GAnI_n3IpUGThV8=&amp;h=442&amp;w=479&amp;sz=26&amp;hl=es&amp;start=10&amp;zoom=1&amp;tbnid=nVrPPoPgBDnUvM:&amp;tbnh=119&amp;tbnw=129&amp;prev=/images?q=hablo+idiomas&amp;hl=es&amp;sa=G&amp;gbv=2&amp;tbs=isch:1&amp;itbs=1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oisanroque.es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edificio diego salinas.jpg"/>
          <p:cNvPicPr/>
          <p:nvPr/>
        </p:nvPicPr>
        <p:blipFill>
          <a:blip r:embed="rId1"/>
          <a:stretch/>
        </p:blipFill>
        <p:spPr>
          <a:xfrm>
            <a:off x="5864400" y="1262160"/>
            <a:ext cx="2530440" cy="3108240"/>
          </a:xfrm>
          <a:prstGeom prst="rect">
            <a:avLst/>
          </a:prstGeom>
          <a:ln w="0">
            <a:noFill/>
          </a:ln>
        </p:spPr>
      </p:pic>
      <p:sp>
        <p:nvSpPr>
          <p:cNvPr id="49" name="2 CuadroTexto"/>
          <p:cNvSpPr/>
          <p:nvPr/>
        </p:nvSpPr>
        <p:spPr>
          <a:xfrm>
            <a:off x="593640" y="428760"/>
            <a:ext cx="74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f0"/>
                </a:solidFill>
                <a:latin typeface="Calibri"/>
              </a:rPr>
              <a:t>      </a:t>
            </a:r>
            <a:r>
              <a:rPr b="1" lang="es-ES" sz="3200" spc="-1" strike="noStrike">
                <a:solidFill>
                  <a:srgbClr val="00b0f0"/>
                </a:solidFill>
                <a:latin typeface="Calibri"/>
              </a:rPr>
              <a:t>La EOI de San Roque te da la bienven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jerry\AppData\Local\Microsoft\Windows\Temporary Internet Files\Low\Content.IE5\S94REMSL\eoi-logoF3[1].png"/>
          <p:cNvPicPr/>
          <p:nvPr/>
        </p:nvPicPr>
        <p:blipFill>
          <a:blip r:embed="rId2"/>
          <a:stretch/>
        </p:blipFill>
        <p:spPr>
          <a:xfrm>
            <a:off x="1692360" y="2852640"/>
            <a:ext cx="2879640" cy="2816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714240" y="5715000"/>
            <a:ext cx="4897440" cy="947160"/>
          </a:xfrm>
          <a:prstGeom prst="rect">
            <a:avLst/>
          </a:prstGeom>
          <a:noFill/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0f0"/>
                </a:solidFill>
                <a:latin typeface="Comic Sans MS"/>
              </a:rPr>
              <a:t>          </a:t>
            </a:r>
            <a:r>
              <a:rPr b="1" lang="es-ES" sz="2800" spc="-1" strike="noStrike">
                <a:solidFill>
                  <a:srgbClr val="00b0f0"/>
                </a:solidFill>
                <a:latin typeface="Comic Sans MS"/>
              </a:rPr>
              <a:t>24 años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0f0"/>
                </a:solidFill>
                <a:latin typeface="Comic Sans MS"/>
              </a:rPr>
              <a:t>        </a:t>
            </a:r>
            <a:r>
              <a:rPr b="1" lang="es-ES" sz="2800" spc="-1" strike="noStrike">
                <a:solidFill>
                  <a:srgbClr val="00b0f0"/>
                </a:solidFill>
                <a:latin typeface="Comic Sans MS"/>
              </a:rPr>
              <a:t>Campo de Gibral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t3.gstatic.com/images?q=tbn:ANd9GcTKtQzYSJhM7DPJsAJI7-4CCUgbgV7_-6VX-dNgq_0eUYv1ux0&amp;t=1&amp;usg=__OkOczzjscZ6YbY7pvoenaBuZP_0="/>
          <p:cNvPicPr/>
          <p:nvPr/>
        </p:nvPicPr>
        <p:blipFill>
          <a:blip r:embed="rId3"/>
          <a:stretch/>
        </p:blipFill>
        <p:spPr>
          <a:xfrm>
            <a:off x="5715000" y="4643280"/>
            <a:ext cx="2735280" cy="204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gizmodo.fr/wp-content/uploads/2009/10/twitter-france.jpg"/>
          <p:cNvPicPr/>
          <p:nvPr/>
        </p:nvPicPr>
        <p:blipFill>
          <a:blip r:embed="rId4"/>
          <a:stretch/>
        </p:blipFill>
        <p:spPr>
          <a:xfrm>
            <a:off x="250920" y="1096920"/>
            <a:ext cx="3097080" cy="152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69636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parajita"/>
                <a:ea typeface="Aparajita"/>
              </a:rPr>
              <a:t>Actividades Extraesco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620280"/>
            <a:ext cx="9434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22 al 25 Octubre 2012: Celebración Bicentenario La Pe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26 al 29 Noviembre 2013: Celebración por dpt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Bicentenario Nacimiento Dickens (Dpto Inglé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Herman Hesse 50 Aniversario Muerte (Dpto. Alemá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Jean-Jacques Rousseau 300 Aniversario Nacimiento (Dpto Francé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20 Diciembre 2012 Fiesta Nav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28 Enero al 7 de Febrero 2013:  Concurso “Dime que me quier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18 Febrero al 14 Marzo 2013: Concurso “Que te Pillen Leyendo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21 Marzo 2013 Fiesta de la Primav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25 Abril 2013 Jornada de Teat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Viajes Dp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07\Pictures\Dickens 200 Aniversary.png"/>
          <p:cNvPicPr/>
          <p:nvPr/>
        </p:nvPicPr>
        <p:blipFill>
          <a:blip r:embed="rId1"/>
          <a:stretch/>
        </p:blipFill>
        <p:spPr>
          <a:xfrm rot="365400">
            <a:off x="5974920" y="5403960"/>
            <a:ext cx="2268720" cy="995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07\Pictures\LaPepa2012.jpg"/>
          <p:cNvPicPr/>
          <p:nvPr/>
        </p:nvPicPr>
        <p:blipFill>
          <a:blip r:embed="rId2"/>
          <a:stretch/>
        </p:blipFill>
        <p:spPr>
          <a:xfrm rot="854400">
            <a:off x="7548120" y="1252440"/>
            <a:ext cx="114948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br>
              <a:rPr sz="3200"/>
            </a:b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¿qué más debes sab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857240"/>
            <a:ext cx="84009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Fotocopias: 7 € incluido servicio SM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Becas: descargar impreso e informarse en www.mec.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Delegad@: elección 3 al 6 de octubre (datos de compañer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Página web </a:t>
            </a:r>
            <a:r>
              <a:rPr b="0" lang="es-ES" sz="2000" spc="-1" strike="noStrike">
                <a:solidFill>
                  <a:srgbClr val="f0a22e"/>
                </a:solidFill>
                <a:latin typeface="Calibri"/>
              </a:rPr>
              <a:t>www.eoisanroque.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Correo electrónico: </a:t>
            </a: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11700081.edu@juntadeandalucia.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Wiki: información del profesor y sus cl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Biblioteca: proyecto y próxima aper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Novedad de este curso: enseñanza semi-presencial (alemá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MC900233874[1]"/>
          <p:cNvPicPr/>
          <p:nvPr/>
        </p:nvPicPr>
        <p:blipFill>
          <a:blip r:embed="rId1"/>
          <a:stretch/>
        </p:blipFill>
        <p:spPr>
          <a:xfrm>
            <a:off x="3564000" y="4941720"/>
            <a:ext cx="1824120" cy="24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Asociación de Alum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26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</a:rPr>
              <a:t>Contacto: aaeoisanroque@hotmail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</a:rPr>
              <a:t>Facebook: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scuela Oficial de Idiomas de San Roque | 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</a:rPr>
              <a:t>Propuesta de diversas actividad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</a:rPr>
              <a:t>Cuota Socio: 5 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f0"/>
                </a:solidFill>
                <a:latin typeface="Calibri"/>
              </a:rPr>
              <a:t>Taller de Italiano y Árab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Abierto plazo matrícul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eriodo de matrícula del 1 al 30 de septiembre de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 partir del 1 de octubre hasta completar vac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atrícula curso completo del 1 de octubre al 31 de may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fórmate 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alibri"/>
              </a:rPr>
              <a:t>www.eoisanroque.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alibri"/>
              </a:rPr>
              <a:t>aaeoisanroque@hotmail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Taller destrezas: Writing/Speaking (Inglés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Taller destrezas: Producción oral y escrita (francé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teresados contacto emai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MC900297567[1]"/>
          <p:cNvPicPr/>
          <p:nvPr/>
        </p:nvPicPr>
        <p:blipFill>
          <a:blip r:embed="rId1"/>
          <a:stretch/>
        </p:blipFill>
        <p:spPr>
          <a:xfrm>
            <a:off x="6084720" y="3789360"/>
            <a:ext cx="2664000" cy="1393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profile.ak.fbcdn.net/hprofile-ak-snc4/203568_116422661776732_2466474_n.jpg"/>
          <p:cNvPicPr/>
          <p:nvPr/>
        </p:nvPicPr>
        <p:blipFill>
          <a:blip r:embed="rId2"/>
          <a:stretch/>
        </p:blipFill>
        <p:spPr>
          <a:xfrm>
            <a:off x="5867280" y="1125360"/>
            <a:ext cx="17146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s-ES" sz="29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br>
              <a:rPr sz="2900"/>
            </a:br>
            <a:r>
              <a:rPr b="1" lang="es-ES" sz="2900" spc="-1" strike="noStrike">
                <a:solidFill>
                  <a:srgbClr val="ff0000"/>
                </a:solidFill>
                <a:latin typeface="Calibri"/>
              </a:rPr>
              <a:t>calendario del alumnado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0920" y="1268280"/>
            <a:ext cx="8103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mbios de horario: del 17 al 28 de septie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rné de estudiante: 15 octubre-15 novie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Plazo extraordinario de matrícula: hasta 30 octu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imultaneidad de matrícula: hasta 15 de febr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Anulación de matrícula: hasta el 30 ab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Matrícula libre: 15-30 ab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Preinscripción: 1-20 may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olicitud de título: 1 al 15 de octubre y del 1 al 15 de febr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Matrícula oficial: 1-10 julio y 1-8 septie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1" descr="MC900351921[1]"/>
          <p:cNvPicPr/>
          <p:nvPr/>
        </p:nvPicPr>
        <p:blipFill>
          <a:blip r:embed="rId1"/>
          <a:stretch/>
        </p:blipFill>
        <p:spPr>
          <a:xfrm>
            <a:off x="6804000" y="4653000"/>
            <a:ext cx="181296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parajita"/>
                <a:ea typeface="Aparajita"/>
              </a:rPr>
              <a:t>Calendario Escolar Provincia Cád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Festivos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12 de octubre de 2012: Fiesta Nacional de Españ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1 de noviembre de 2012: Fiesta de todos los Santo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6 de diciembre de 2012: Día de la Constitució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22 de diciembre- 7 de enero de 20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28 de Febrero de 2013: Día de Andalucí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1 marzo de 2013 "Día de la Educación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23 al 31 de Marzo </a:t>
            </a:r>
            <a:r>
              <a:rPr b="0" i="1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(Semana Sant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1 de mayo de 2013: Día del Trabaj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21 mayo (fiesta local)/</a:t>
            </a:r>
            <a:r>
              <a:rPr b="0" i="1" lang="es-ES" sz="2700" spc="-1" strike="noStrike" u="sng">
                <a:solidFill>
                  <a:srgbClr val="000000"/>
                </a:solidFill>
                <a:uFillTx/>
                <a:latin typeface="Aparajita"/>
                <a:ea typeface="Aparajita"/>
              </a:rPr>
              <a:t>27 febrero/20 mayo 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parajita"/>
                <a:ea typeface="Aparajita"/>
              </a:rPr>
              <a:t>Consejo Escolar Municipal Propue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C:\Users\07\AppData\Local\Microsoft\Windows\Temporary Internet Files\Content.IE5\VKNGSQUC\MP900442239[1].jpg"/>
          <p:cNvPicPr/>
          <p:nvPr/>
        </p:nvPicPr>
        <p:blipFill>
          <a:blip r:embed="rId1"/>
          <a:stretch/>
        </p:blipFill>
        <p:spPr>
          <a:xfrm>
            <a:off x="7451640" y="1341360"/>
            <a:ext cx="10810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4 Imagen" descr="CUIDEMOS LA ESCUELA.png"/>
          <p:cNvPicPr/>
          <p:nvPr/>
        </p:nvPicPr>
        <p:blipFill>
          <a:blip r:embed="rId1"/>
          <a:stretch/>
        </p:blipFill>
        <p:spPr>
          <a:xfrm>
            <a:off x="5500800" y="4214880"/>
            <a:ext cx="3143160" cy="20476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un espacio de respe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compañeris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puntual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móviles apag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… </a:t>
            </a: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y a disfrutar aprendien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3 Imagen" descr="MOVIL APAGADO.bmp"/>
          <p:cNvPicPr/>
          <p:nvPr/>
        </p:nvPicPr>
        <p:blipFill>
          <a:blip r:embed="rId2"/>
          <a:stretch/>
        </p:blipFill>
        <p:spPr>
          <a:xfrm>
            <a:off x="6643800" y="12859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Aprendiendo%20idiomas"/>
          <p:cNvPicPr/>
          <p:nvPr/>
        </p:nvPicPr>
        <p:blipFill>
          <a:blip r:embed="rId3"/>
          <a:stretch/>
        </p:blipFill>
        <p:spPr>
          <a:xfrm>
            <a:off x="785880" y="435780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t3.gstatic.com/images?q=tbn:ANd9GcQhRS7rRX3P3TuOVbpfGLjkryDE_xNUgZST-T7zcxoIK4VwO0AOtA"/>
          <p:cNvPicPr/>
          <p:nvPr/>
        </p:nvPicPr>
        <p:blipFill>
          <a:blip r:embed="rId4"/>
          <a:stretch/>
        </p:blipFill>
        <p:spPr>
          <a:xfrm>
            <a:off x="4143240" y="1500120"/>
            <a:ext cx="226692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8748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br>
              <a:rPr sz="3600"/>
            </a:br>
            <a:br>
              <a:rPr sz="2200"/>
            </a:br>
            <a:r>
              <a:rPr b="0" lang="es-ES" sz="2200" spc="-1" strike="noStrike">
                <a:solidFill>
                  <a:srgbClr val="7f7f7f"/>
                </a:solidFill>
                <a:latin typeface="Calibri"/>
              </a:rPr>
              <a:t>- INGLÉS 665 + CAL 99= 764</a:t>
            </a:r>
            <a:r>
              <a:rPr b="0" lang="es-ES" sz="2200" spc="-1" strike="noStrike">
                <a:solidFill>
                  <a:srgbClr val="7f7f7f"/>
                </a:solidFill>
                <a:latin typeface="Calibri"/>
              </a:rPr>
              <a:t>	</a:t>
            </a:r>
            <a:br>
              <a:rPr sz="2200"/>
            </a:br>
            <a:r>
              <a:rPr b="0" lang="es-ES" sz="2200" spc="-1" strike="noStrike">
                <a:solidFill>
                  <a:srgbClr val="7f7f7f"/>
                </a:solidFill>
                <a:latin typeface="Calibri"/>
              </a:rPr>
              <a:t>- FRANCÉS 131</a:t>
            </a:r>
            <a:br>
              <a:rPr sz="2200"/>
            </a:br>
            <a:r>
              <a:rPr b="0" lang="es-ES" sz="2200" spc="-1" strike="noStrike">
                <a:solidFill>
                  <a:srgbClr val="7f7f7f"/>
                </a:solidFill>
                <a:latin typeface="Calibri"/>
              </a:rPr>
              <a:t>- ALEMÁN 80</a:t>
            </a:r>
            <a:r>
              <a:rPr b="0" lang="es-ES" sz="2200" spc="-1" strike="noStrike">
                <a:solidFill>
                  <a:srgbClr val="7f7f7f"/>
                </a:solidFill>
                <a:latin typeface="Calibri"/>
              </a:rPr>
              <a:t>	</a:t>
            </a:r>
            <a:br>
              <a:rPr sz="2200"/>
            </a:br>
            <a:r>
              <a:rPr b="0" lang="es-ES" sz="2200" spc="-1" strike="noStrike">
                <a:solidFill>
                  <a:srgbClr val="7f7f7f"/>
                </a:solidFill>
                <a:latin typeface="Calibri"/>
              </a:rPr>
              <a:t>- ESPAÑOL PARA EXTRANJEROS 55</a:t>
            </a:r>
            <a:br>
              <a:rPr sz="2200"/>
            </a:br>
            <a:r>
              <a:rPr b="0" lang="es-ES" sz="2200" spc="-1" strike="noStrike">
                <a:solidFill>
                  <a:srgbClr val="7f7f7f"/>
                </a:solidFill>
                <a:latin typeface="Calibri"/>
              </a:rPr>
              <a:t>-THAT´S ENGLISH 400 vacantes- Abierto Plazo preinscripción</a:t>
            </a:r>
            <a:br>
              <a:rPr sz="2200"/>
            </a:br>
            <a:r>
              <a:rPr b="0" lang="es-ES" sz="2200" spc="-1" strike="noStrike">
                <a:solidFill>
                  <a:srgbClr val="7f7f7f"/>
                </a:solidFill>
                <a:latin typeface="Calibri"/>
              </a:rPr>
              <a:t>- SEMIPRESENCIAL INGLÉS - 122</a:t>
            </a:r>
            <a:br>
              <a:rPr sz="2200"/>
            </a:br>
            <a:r>
              <a:rPr b="0" lang="es-ES" sz="2200" spc="-1" strike="noStrike">
                <a:solidFill>
                  <a:srgbClr val="7f7f7f"/>
                </a:solidFill>
                <a:latin typeface="Calibri"/>
              </a:rPr>
              <a:t>- SEMIPRESENCIAL ALEMÁN)- 63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8920" y="3933720"/>
            <a:ext cx="917892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ff0000"/>
                </a:solidFill>
                <a:uFillTx/>
                <a:latin typeface="Calibri"/>
              </a:rPr>
              <a:t>NIVELES, CURSOS Y CERTIFI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Básico: 2 cursos - certificado Nivel Bás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Intermedio: 1 curso - certificado Nivel Intermed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Avanzado: 2 cursos - certificado  Nivel Avanz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Los alumnos oficiales de NI y 2º NA tendrán pruebas  unificadas de certificación (PU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Los alumnos de 1º y 2º NB y 1º NA Evaluación Continu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idiom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85080" y="260280"/>
            <a:ext cx="939960" cy="868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C:\Documents and Settings\PC1\Configuración local\Archivos temporales de Internet\Content.IE5\WLU14DKB\MCj04154920000[1].wmf"/>
          <p:cNvPicPr/>
          <p:nvPr/>
        </p:nvPicPr>
        <p:blipFill>
          <a:blip r:embed="rId3"/>
          <a:stretch/>
        </p:blipFill>
        <p:spPr>
          <a:xfrm>
            <a:off x="6227640" y="1125360"/>
            <a:ext cx="1032120" cy="95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C:\Documents and Settings\PC1\Configuración local\Archivos temporales de Internet\Content.IE5\BYWNF58P\MCBD19969_0000[1].wmf"/>
          <p:cNvPicPr/>
          <p:nvPr/>
        </p:nvPicPr>
        <p:blipFill>
          <a:blip r:embed="rId4"/>
          <a:stretch/>
        </p:blipFill>
        <p:spPr>
          <a:xfrm>
            <a:off x="7215120" y="3286080"/>
            <a:ext cx="192888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thats_english"/>
          <p:cNvPicPr/>
          <p:nvPr/>
        </p:nvPicPr>
        <p:blipFill>
          <a:blip r:embed="rId5"/>
          <a:stretch/>
        </p:blipFill>
        <p:spPr>
          <a:xfrm>
            <a:off x="7812000" y="1413000"/>
            <a:ext cx="1141560" cy="5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t0.gstatic.com/images?q=tbn:ANd9GcRG4yyGJJ1Yh6AOjAWqQkLxsVm4deCMSnpajD2DqY-Soctc_6e_Mg"/>
          <p:cNvPicPr/>
          <p:nvPr/>
        </p:nvPicPr>
        <p:blipFill>
          <a:blip r:embed="rId6"/>
          <a:stretch/>
        </p:blipFill>
        <p:spPr>
          <a:xfrm>
            <a:off x="6227640" y="3213000"/>
            <a:ext cx="119376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9 Rectángulo"/>
          <p:cNvSpPr/>
          <p:nvPr/>
        </p:nvSpPr>
        <p:spPr>
          <a:xfrm flipV="1">
            <a:off x="250920" y="5588640"/>
            <a:ext cx="7129440" cy="4762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Calibri"/>
              </a:rPr>
              <a:t>Exámenes y evaluacion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268280"/>
            <a:ext cx="8713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-410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b050"/>
                </a:solidFill>
                <a:latin typeface="Calibri"/>
              </a:rPr>
              <a:t>Alumnos NI y 2º N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Evaluación de diciembre: boletín de not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Examen preparatorio de febrero P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Examen final de junio P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Convocatoria extraordinaria de septiemb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b050"/>
                </a:solidFill>
                <a:latin typeface="Calibri"/>
              </a:rPr>
              <a:t>Alumnos 1º y 2º NB y 1º N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Evaluación continua a lo largo del curso con pruebas diversas para calific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Evaluación de diciembre: boletín de notas que califique los conocimientos del alumno a través de los ejercicios de cl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Calificación de su rendimiento en febrero y jun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Convocatoria extraordinaria de septiemb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sistencia/faltas: superar 30% de faltas supone pérdida  evaluación continua y permanecer escolarizado: faltas de menores justificadas por padres/tut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1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echas de exámenes no sujetas a camb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2" descr="C:\Documents and Settings\PC1\Configuración local\Archivos temporales de Internet\Content.IE5\25QLEPWJ\MCj03981290000[1].wmf"/>
          <p:cNvPicPr/>
          <p:nvPr/>
        </p:nvPicPr>
        <p:blipFill>
          <a:blip r:embed="rId1"/>
          <a:stretch/>
        </p:blipFill>
        <p:spPr>
          <a:xfrm>
            <a:off x="7164360" y="476280"/>
            <a:ext cx="1677960" cy="181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C:\Documents and Settings\PC1\Configuración local\Archivos temporales de Internet\Content.IE5\2PSJWHG7\MCj03433510000[1].wmf"/>
          <p:cNvPicPr/>
          <p:nvPr/>
        </p:nvPicPr>
        <p:blipFill>
          <a:blip r:embed="rId2"/>
          <a:stretch/>
        </p:blipFill>
        <p:spPr>
          <a:xfrm>
            <a:off x="7596360" y="5516640"/>
            <a:ext cx="1196640" cy="11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PC1\Configuración local\Archivos temporales de Internet\Content.IE5\BYWNF58P\MCj02317800000[1].wmf"/>
          <p:cNvPicPr/>
          <p:nvPr/>
        </p:nvPicPr>
        <p:blipFill>
          <a:blip r:embed="rId1"/>
          <a:stretch/>
        </p:blipFill>
        <p:spPr>
          <a:xfrm>
            <a:off x="7093080" y="836640"/>
            <a:ext cx="1765080" cy="1298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Calibri"/>
              </a:rPr>
              <a:t>Tipología de exáme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4 destrezas: hablar, escribir, escuchar, l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alificación por destreza: APTO / NO AP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PTO el examen: aprobando las 4 destrezas                      y superando el 50% de cada destreza P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UC  alumnos de NI y 2º 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valuación continua en NB y 1º 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2 CuadroTexto"/>
          <p:cNvSpPr/>
          <p:nvPr/>
        </p:nvSpPr>
        <p:spPr>
          <a:xfrm>
            <a:off x="603720" y="42876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4 CuadroTexto"/>
          <p:cNvSpPr/>
          <p:nvPr/>
        </p:nvSpPr>
        <p:spPr>
          <a:xfrm>
            <a:off x="684360" y="1857240"/>
            <a:ext cx="7888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RETAR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MAÑANAS L-V: 10.00-13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ÉRCOLES: 17.00-19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IRECCIÓ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lunes 16.00 -18.00  y miércoles  12.00-13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JEFATURA DE ESTUDI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unes 18.00-20.00 h y martes 13.00-14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LASES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urnos de mañana (inglés) 9.30 a 14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urnos de tarde 15.45 a 21.3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CuadroTexto"/>
          <p:cNvSpPr/>
          <p:nvPr/>
        </p:nvSpPr>
        <p:spPr>
          <a:xfrm>
            <a:off x="642960" y="1285920"/>
            <a:ext cx="67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Horarios de atención al alumnad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PC1\Configuración local\Archivos temporales de Internet\Content.IE5\SNKFEN0Z\MCj04046610000[1].wmf"/>
          <p:cNvPicPr/>
          <p:nvPr/>
        </p:nvPicPr>
        <p:blipFill>
          <a:blip r:embed="rId1"/>
          <a:stretch/>
        </p:blipFill>
        <p:spPr>
          <a:xfrm>
            <a:off x="6858000" y="192888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www.arearh.com/fotos/trabajo_a_turnos.jpg"/>
          <p:cNvPicPr/>
          <p:nvPr/>
        </p:nvPicPr>
        <p:blipFill>
          <a:blip r:embed="rId2"/>
          <a:stretch/>
        </p:blipFill>
        <p:spPr>
          <a:xfrm>
            <a:off x="6875640" y="4005360"/>
            <a:ext cx="1144440" cy="12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Información tablon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4000" y="1268280"/>
            <a:ext cx="8002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Calibri"/>
              </a:rPr>
              <a:t>El Alumno debe informarse a través 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Calibri"/>
              </a:rPr>
              <a:t>los tablones oficiales de la Escuela</a:t>
            </a:r>
            <a:r>
              <a:rPr b="0" lang="es-ES" sz="3000" spc="-1" strike="noStrike">
                <a:solidFill>
                  <a:srgbClr val="7f7f7f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f7f7f"/>
                </a:solidFill>
                <a:latin typeface="Calibri"/>
              </a:rPr>
              <a:t>Secretaría: plazos de matriculación, anulación de matrícula, solicitud de títulos,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f7f7f"/>
                </a:solidFill>
                <a:latin typeface="Calibri"/>
              </a:rPr>
              <a:t>Departamen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f7f7f"/>
                </a:solidFill>
                <a:latin typeface="Calibri"/>
              </a:rPr>
              <a:t>Actividades Cultur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f7f7f"/>
                </a:solidFill>
                <a:latin typeface="Calibri"/>
              </a:rPr>
              <a:t>That’s Engl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f7f7f"/>
                </a:solidFill>
                <a:latin typeface="Calibri"/>
              </a:rPr>
              <a:t>Asociación de Alumn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f7f7f"/>
                </a:solidFill>
                <a:latin typeface="Calibri"/>
              </a:rPr>
              <a:t>Anuncios particulares y public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es-ES" sz="3000" spc="-1" strike="noStrike">
                <a:solidFill>
                  <a:srgbClr val="ff0000"/>
                </a:solidFill>
                <a:latin typeface="Calibri"/>
              </a:rPr>
              <a:t>y de su página web: </a:t>
            </a:r>
            <a:r>
              <a:rPr b="0" lang="es-ES" sz="3000" spc="-1" strike="noStrike" u="sng">
                <a:solidFill>
                  <a:srgbClr val="ad1f1f"/>
                </a:solidFill>
                <a:uFillTx/>
                <a:latin typeface="Calibri"/>
                <a:hlinkClick r:id="rId1"/>
              </a:rPr>
              <a:t>www.eoisanroque.es</a:t>
            </a:r>
            <a:r>
              <a:rPr b="0" lang="es-ES" sz="3000" spc="-1" strike="noStrike">
                <a:solidFill>
                  <a:srgbClr val="f0a22e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t0.gstatic.com/images?q=tbn:ANd9GcTT7XpBM_EcBsT6j0v5pXvsqJXHyRaVd-7mOl8MN2SJTfBBo3o&amp;t=1&amp;usg=__ifT_k9Fh6H2iEe0RUy5epnp8Oss="/>
          <p:cNvPicPr/>
          <p:nvPr/>
        </p:nvPicPr>
        <p:blipFill>
          <a:blip r:embed="rId2"/>
          <a:stretch/>
        </p:blipFill>
        <p:spPr>
          <a:xfrm>
            <a:off x="7164360" y="115920"/>
            <a:ext cx="1341360" cy="155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Calibri"/>
              </a:rPr>
              <a:t>Tutorí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874872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 alumnado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Podrá disponer de tutorías para ser informado de su proceso de aprendizaje durante el curs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La tutoría podrá ser fijada por el profesor@ 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previamente por el alumn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La cita la confirmará tu profesor@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MC900279226[1]"/>
          <p:cNvPicPr/>
          <p:nvPr/>
        </p:nvPicPr>
        <p:blipFill>
          <a:blip r:embed="rId1"/>
          <a:stretch/>
        </p:blipFill>
        <p:spPr>
          <a:xfrm>
            <a:off x="971640" y="1052640"/>
            <a:ext cx="133992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4000" spc="-1" strike="noStrike">
                <a:solidFill>
                  <a:srgbClr val="ff0000"/>
                </a:solidFill>
                <a:latin typeface="Calibri"/>
              </a:rPr>
              <a:t>Dpto. Francé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1125360"/>
            <a:ext cx="65851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898989"/>
                </a:solidFill>
                <a:latin typeface="Calibri"/>
              </a:rPr>
              <a:t>Libros de tex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110040" y="2346120"/>
            <a:ext cx="2923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800" y="44924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agen 1" descr="portada alter ego A1+"/>
          <p:cNvPicPr/>
          <p:nvPr/>
        </p:nvPicPr>
        <p:blipFill>
          <a:blip r:embed="rId1"/>
          <a:stretch/>
        </p:blipFill>
        <p:spPr>
          <a:xfrm>
            <a:off x="928800" y="2000160"/>
            <a:ext cx="847440" cy="1071720"/>
          </a:xfrm>
          <a:prstGeom prst="rect">
            <a:avLst/>
          </a:prstGeom>
          <a:ln w="0">
            <a:noFill/>
          </a:ln>
        </p:spPr>
      </p:pic>
      <p:pic>
        <p:nvPicPr>
          <p:cNvPr id="85" name="Imagen 8" descr="cahier alter ego"/>
          <p:cNvPicPr/>
          <p:nvPr/>
        </p:nvPicPr>
        <p:blipFill>
          <a:blip r:embed="rId2"/>
          <a:stretch/>
        </p:blipFill>
        <p:spPr>
          <a:xfrm>
            <a:off x="2000160" y="200016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431960" y="8920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674520" y="2216520"/>
            <a:ext cx="17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n 4" descr="C:\Users\Biblioteca\Desktop\francés\portada agenda A2.jpg"/>
          <p:cNvPicPr/>
          <p:nvPr/>
        </p:nvPicPr>
        <p:blipFill>
          <a:blip r:embed="rId3"/>
          <a:stretch/>
        </p:blipFill>
        <p:spPr>
          <a:xfrm>
            <a:off x="4788000" y="3860640"/>
            <a:ext cx="1247760" cy="1390680"/>
          </a:xfrm>
          <a:prstGeom prst="rect">
            <a:avLst/>
          </a:prstGeom>
          <a:ln w="0">
            <a:noFill/>
          </a:ln>
        </p:spPr>
      </p:pic>
      <p:pic>
        <p:nvPicPr>
          <p:cNvPr id="90" name="Imagen 5" descr="C:\Users\Biblioteca\Desktop\francés\porada agenda B1.jpg"/>
          <p:cNvPicPr/>
          <p:nvPr/>
        </p:nvPicPr>
        <p:blipFill>
          <a:blip r:embed="rId4"/>
          <a:stretch/>
        </p:blipFill>
        <p:spPr>
          <a:xfrm>
            <a:off x="6286680" y="3357720"/>
            <a:ext cx="1276200" cy="1500120"/>
          </a:xfrm>
          <a:prstGeom prst="rect">
            <a:avLst/>
          </a:prstGeom>
          <a:ln w="0">
            <a:noFill/>
          </a:ln>
        </p:spPr>
      </p:pic>
      <p:pic>
        <p:nvPicPr>
          <p:cNvPr id="91" name="Imagen 6" descr="C:\Users\Biblioteca\Desktop\francés\portada nouvel edito.jpg"/>
          <p:cNvPicPr/>
          <p:nvPr/>
        </p:nvPicPr>
        <p:blipFill>
          <a:blip r:embed="rId5"/>
          <a:stretch/>
        </p:blipFill>
        <p:spPr>
          <a:xfrm>
            <a:off x="2786040" y="5000760"/>
            <a:ext cx="1285920" cy="13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Calibri"/>
              </a:rPr>
              <a:t>Cómo ser un buen alum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1557360"/>
            <a:ext cx="90360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.-Estudiar un idioma es un proceso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: de 4,5 horas de clase a la semana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or esto debes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acticar cada dí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istribuye tu tiempo de estudio: 15 a 30 minutos a lo largo del día. Practica las diferentes destrezas: hablar, escuchar, escribir, lee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.- Participa en clase: es la mejor oportunidad para habla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3.-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oce a tus compañero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y relaciónate con ellos : te sentirás entre amigos y perderá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miedo a expresarte en otro idio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4.- Mantén una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tud positiv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5.-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ide ayud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i la necesitas a tu profesor y compañeros. Forma un grupo de estudios con tus compañer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6- Aprende a aprende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) determina lo que necesitas aprender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b) fija tus propios objetivos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) marca un ritmo de trabajo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) revisa tu progreso comprobando lo que sabes y lo que pretendes aprender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) busca ocasiones para utilizar la lengua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f) no temas cometer errore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g) busca estrategias de aprendizaje y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unque te bloquees, no te angus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7- Procura no faltar a clase y practicar fuera del au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0" descr="MC900415486[1]"/>
          <p:cNvPicPr/>
          <p:nvPr/>
        </p:nvPicPr>
        <p:blipFill>
          <a:blip r:embed="rId1"/>
          <a:stretch/>
        </p:blipFill>
        <p:spPr>
          <a:xfrm>
            <a:off x="7443720" y="507960"/>
            <a:ext cx="1449360" cy="119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ry</dc:creator>
  <dc:description/>
  <dc:language>en-US</dc:language>
  <cp:lastModifiedBy>Nicolas</cp:lastModifiedBy>
  <dcterms:modified xsi:type="dcterms:W3CDTF">2012-10-11T09:14:50Z</dcterms:modified>
  <cp:revision>195</cp:revision>
  <dc:subject/>
  <dc:title>Diapositiva 1</dc:title>
</cp:coreProperties>
</file>